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92CC-00FE-4C70-B963-82257A7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857B-3645-49AF-B728-0028BD3D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F8B1-FABB-4F4E-9890-0295A702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05B9-3BEB-4ECD-9479-0905D106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DF85-2E15-47D5-882A-485C93C9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EF2-0075-46EB-AE11-A317D47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D557-E242-4966-9CBB-107F263E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E2AD-865B-47DE-9709-B23ADBC5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E037-0654-4F49-BDA6-051C62A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494-E6A2-4AFA-B963-1E5D580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1A2E-08E9-464C-A71A-1612EF42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966B-F906-44C0-A48A-3EA7798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1C8-7894-4035-9F0E-1DC431D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DCB4-C7A8-4A97-8A3F-8B48936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37E-15DB-46D3-887E-399373B0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A96-D792-4D5F-AFFE-F0EB07EE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2904-823A-4F48-B073-96FE672E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01A2-58D7-4A24-877B-C0BFF719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45AF-27CF-4E8C-98D9-7EC5241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8805-8A1D-4A09-A56C-8A42E9E0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593B-763E-45A5-B483-49910D1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E298-C822-4C36-85BC-FD73B02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95FB-5C75-4725-B0C8-D083159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901D-65DA-4F46-AEB8-5C59611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12E0A3-F4E3-41C6-93B5-667A7D8C0C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73333-9CAB-4CCA-97CF-B4298BBB6B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2060280"/>
            <a:ext cx="611964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нсовый контроль  в деятельности заместителя директора по учеб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98600" y="436572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Томшинская Е.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Зам. директора  ОГАПОУ «Старооскольский медици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18.10.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:\Фоновый рисунок средства просмотра фотографий Windows.jpg"/>
          <p:cNvPicPr/>
          <p:nvPr/>
        </p:nvPicPr>
        <p:blipFill>
          <a:blip r:embed="rId1"/>
          <a:stretch/>
        </p:blipFill>
        <p:spPr>
          <a:xfrm>
            <a:off x="30240" y="4211640"/>
            <a:ext cx="4761000" cy="26035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382920" y="47628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гиональное учебно-методическое объедин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местителей директоров по У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076280" y="115920"/>
            <a:ext cx="42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инистерство образования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924280"/>
          <a:ext cx="8280360" cy="2103480"/>
        </p:xfrm>
        <a:graphic>
          <a:graphicData uri="http://schemas.openxmlformats.org/drawingml/2006/table">
            <a:tbl>
              <a:tblPr/>
              <a:tblGrid>
                <a:gridCol w="453960"/>
                <a:gridCol w="3016440"/>
                <a:gridCol w="2454120"/>
                <a:gridCol w="2355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 правоустанавливающих докум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цензия на осуществление образователь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идетельство  о государственной аккредит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чень реализуемых образовательных програм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инг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E2482E-C0DB-418D-B18A-32E310A854B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413000"/>
          <a:ext cx="8713800" cy="524196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 педагогической нагрузке, тарификационный список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Рабочий учебный пл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аудиторных часов  на группу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оретические занятия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ктические занятия, основания для деления на подгруппы 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ое руководство практик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сультации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овая  и промежуточная аттест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Реализация программ углубленной подгото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 Записи  в учебных журналах, соответствие расписан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Контингент обучающихся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обучающихся в группе, подгруппе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мика континг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эффициент наполняемости групп, подгруп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академическом отпуске., восстановлении ит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Гарантированные надбавки и допла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 детей сирот, детей инвалидов (с подтверждающими документами, сроки изменения статус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раторство: приказы о назначении курат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ведование учебными кабинетами.. (приказ и наличие кабине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уководство  ЦМК (приказ о составе ЦМ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ведование отделениями (приказ о наличии отделен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исьменных работ (соответствие РУП, приказ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Выплаты компенсационного характ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 Количество педагогических часов и результаты СО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700280"/>
          <a:ext cx="8713800" cy="323208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 педагогической нагрузке, тарификационный список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Стимулирующие выпла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снованность назначения доплат за ученую степень, наличие  государственных и отраслевых наград. (приказы, личные дел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плата за стаж работы (личные дела, трудовые книж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Фактическое выполнение педагогической нагруз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т выполненной нагруз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снованность уменьшения педнагрузки (приказы, расче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выполнении  педнагрузки по итогам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влечение совместите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чные д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можность совмещения в рабочее время (проведение практических занятий на базах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афики работы по основному месту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на оплату за проведенные пед ча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BBEA54-B049-42B7-A91B-1EAF7311CE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700280"/>
          <a:ext cx="8713800" cy="416088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исполнения государственных заданий, основные показате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сударственные задания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чет о выполнении государственного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ка…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едения о численности обучающихс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месячный учет числ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допустимых отклонен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равильности расходования средств на выплату стипенд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пенд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ипендиальные ведом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УП,  локальные ак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одные ведо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ки о праве на социальную стипенд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равомерности расходования средств на социальную защиту сиро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пендий, выпл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т документов подтверждающий социальный 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DDD6F6-1D65-4273-BDE5-178C1EDE993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700280"/>
          <a:ext cx="8713800" cy="399420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мулирующих выпл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окальный 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а о составе коми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токола заседания коми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сональных к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х документов по каждому пункту, соответствие документов – пункту, разделу, срока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ьный расчет количества бал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премирова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окальный 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а о премиров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омочность  выпл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эффективности использования материально-технической ба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ьность учета  и списания нефинансовых актив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омерность расходования средств на питание  обучающихся  ит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B47C7B-DEF7-454D-9E3A-7F199D61DC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13012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User</cp:lastModifiedBy>
  <dcterms:modified xsi:type="dcterms:W3CDTF">2024-10-17T21:35:17Z</dcterms:modified>
  <cp:revision>6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