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2614-63BE-454E-AA46-A195059A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5992-7AEC-4502-85F6-20477D9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B2AB-4B6B-4A55-9A00-49CC7011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7910-6D9F-4DC2-A1C0-292B747C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236A-BCE3-4B0D-B376-9320CEE5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3FC0-5C5A-4CCA-B408-2CFA9C19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194-F2A1-4072-B766-5926E493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8925-70D5-426D-84B2-CA842EA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3C3-2415-4E35-8754-044B545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14A-0A9C-49BE-84F5-CA705965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6A7E-DE48-4F30-806C-02B1E30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A369-02D2-44DC-A5D2-571F711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0019-5D07-457E-9618-336B439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0A81-D8B4-4125-94F8-F2B4720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6B39-F5A8-4EA0-BA59-362DE5A3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9159-465A-4691-9B0C-8C902078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04DC-2DE8-407E-A8D6-198D141A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3DAA-DF0C-44DB-AC8A-DC82A912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5D27-AF20-4221-B357-CD81C9F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6874-D19F-4FF8-A190-E06AF14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5040-EC91-4622-B6E3-01AFE134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1107-7AA1-4789-8F51-5E6C8A39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04B9-2B18-4DE6-9B2C-EF587AE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A2C2-0008-4AD7-85FD-652347F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C7D079-B6E4-42E4-A6E8-470F998A7D8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7A2465-D009-48D5-8AC5-0215D4ABAC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2060280"/>
            <a:ext cx="611964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и основания для стимулирующих выплат заместителя директора по учеб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98600" y="4365720"/>
            <a:ext cx="403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Томшинская Е.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Зам. директора  ОГАПОУ «Старооскольский медици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18.10.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F:\Фоновый рисунок средства просмотра фотографий Windows.jpg"/>
          <p:cNvPicPr/>
          <p:nvPr/>
        </p:nvPicPr>
        <p:blipFill>
          <a:blip r:embed="rId1"/>
          <a:stretch/>
        </p:blipFill>
        <p:spPr>
          <a:xfrm>
            <a:off x="30240" y="4211640"/>
            <a:ext cx="4761000" cy="26035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382920" y="476280"/>
            <a:ext cx="57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гиональное учебно-методическое объедин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местителей директоров по У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076280" y="115920"/>
            <a:ext cx="42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инистерство образования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2130120"/>
            <a:ext cx="62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4105440" cy="2521080"/>
          </a:xfrm>
          <a:prstGeom prst="rect">
            <a:avLst/>
          </a:prstGeom>
          <a:noFill/>
          <a:ln w="324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правовая база начисления стимулирующих выплат: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жение об оплате труда работников профессиональных образовательных организаций Белгородской области», утвержденное постановлением Правительства Белгородской области от 07 апреля 2014 года № 138-пп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далее – Поло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317080" y="6248520"/>
            <a:ext cx="365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E16166-7D5B-4F96-9193-7620E50C46E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47042" t="19572" r="24182" b="9439"/>
          <a:stretch/>
        </p:blipFill>
        <p:spPr>
          <a:xfrm>
            <a:off x="5148360" y="620640"/>
            <a:ext cx="1712880" cy="23767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14" name="Picture 3" descr=""/>
          <p:cNvPicPr/>
          <p:nvPr/>
        </p:nvPicPr>
        <p:blipFill>
          <a:blip r:embed="rId2"/>
          <a:srcRect l="48702" t="19690" r="24733" b="12392"/>
          <a:stretch/>
        </p:blipFill>
        <p:spPr>
          <a:xfrm>
            <a:off x="6659640" y="1197000"/>
            <a:ext cx="1803240" cy="2592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5" name="TextBox 5"/>
          <p:cNvSpPr/>
          <p:nvPr/>
        </p:nvSpPr>
        <p:spPr>
          <a:xfrm>
            <a:off x="395280" y="4221000"/>
            <a:ext cx="4032360" cy="1067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меры. порядок и условия  установления работникам ПОО выплат стимулирующего характера определяю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елом  6  Поло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3"/>
          <a:srcRect l="39848" t="19690" r="17539" b="10423"/>
          <a:stretch/>
        </p:blipFill>
        <p:spPr>
          <a:xfrm>
            <a:off x="5651640" y="4005360"/>
            <a:ext cx="2577960" cy="2376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684360" y="1341360"/>
            <a:ext cx="3024000" cy="1079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c0504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DO_circle001"/>
          <p:cNvPicPr/>
          <p:nvPr/>
        </p:nvPicPr>
        <p:blipFill>
          <a:blip r:embed="rId1"/>
          <a:stretch/>
        </p:blipFill>
        <p:spPr>
          <a:xfrm>
            <a:off x="324000" y="1268280"/>
            <a:ext cx="10792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539640" y="1557360"/>
            <a:ext cx="6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932360" y="1413000"/>
            <a:ext cx="3095640" cy="1079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843280" y="450864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DP_circle001"/>
          <p:cNvPicPr/>
          <p:nvPr/>
        </p:nvPicPr>
        <p:blipFill>
          <a:blip r:embed="rId2"/>
          <a:stretch/>
        </p:blipFill>
        <p:spPr>
          <a:xfrm>
            <a:off x="4356000" y="134136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464328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6"/>
          <p:cNvSpPr/>
          <p:nvPr/>
        </p:nvSpPr>
        <p:spPr>
          <a:xfrm>
            <a:off x="395280" y="549360"/>
            <a:ext cx="8224920" cy="5540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 стимулирующих выплат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ующая часть фонда оплаты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1476360" y="1413000"/>
            <a:ext cx="2448000" cy="82404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имулирующ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часть фонда опла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труда директо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5508720" y="1413000"/>
            <a:ext cx="3024000" cy="9309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ующая часть фонда оплаты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а иного административного,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ого, учебно-вспомогательного, обслуживающего  персонала и технических исполни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1154160" y="4299120"/>
            <a:ext cx="2511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36"/>
          <p:cNvSpPr/>
          <p:nvPr/>
        </p:nvSpPr>
        <p:spPr>
          <a:xfrm>
            <a:off x="2207880" y="2997360"/>
            <a:ext cx="46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выплат стимулирующего харак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37"/>
          <p:cNvSpPr/>
          <p:nvPr/>
        </p:nvSpPr>
        <p:spPr>
          <a:xfrm>
            <a:off x="900000" y="3645000"/>
            <a:ext cx="7704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лата за ученую степень, звание и за наличие государственных и отраслевых нагр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лата за общий стаж рабо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ыплаты стимулирующего характера по результатам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ьная помощь и премия  по итогам работы за квартал (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5160"/>
            <a:ext cx="5986440" cy="7714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386000"/>
          <a:ext cx="6121080" cy="4556160"/>
        </p:xfrm>
        <a:graphic>
          <a:graphicData uri="http://schemas.openxmlformats.org/drawingml/2006/table">
            <a:tbl>
              <a:tblPr/>
              <a:tblGrid>
                <a:gridCol w="419040"/>
                <a:gridCol w="2820960"/>
                <a:gridCol w="288108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 организации и проведения итоговой/промежуточной аттестации студ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ачестве организации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й/промежуточной аттестации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составления расписания, привлечение работодателей к проведению экзаменов по профессиональным модулям и ГИА, разработка программ ГИ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промежуточной и итоговой аттестации, успеваемость по всем УД/ПМ учебных план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зультатах промежуточной  и итоговой аттестации (средний балл, качество знаний, успеваемость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образовательным процессом: открытие новых специальностей/профессий из перечн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 прохождении процедуры лицензирования, аккредитации образовательных программ, расширении перечня программ ДП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 организации и контроля (мониторинга) образовательного процесса. Реализация программ дуального обучения (для заместителя директора по УР и УПР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проведении внутреннего контроля качества образовательного процесса по специальности/ дисциплинам, ПМ. Приказ о проведении  контроля, сроках, составе комиссии, аналитический приказ о результатах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ая организация работы общественных органов, участвующих в управлении образовательным учреждением (методический совет, педагогический совет, научно-методический совет, органы ученического самоуправления и т.д.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наличии общественных органов управления, количестве и тематике заседан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7B71E1-0A8F-42D6-B96A-466F8F3E3A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35831" t="21001" r="38577" b="14600"/>
          <a:stretch/>
        </p:blipFill>
        <p:spPr>
          <a:xfrm>
            <a:off x="6875640" y="549360"/>
            <a:ext cx="176364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6562800" cy="4111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197000"/>
          <a:ext cx="8713800" cy="5119560"/>
        </p:xfrm>
        <a:graphic>
          <a:graphicData uri="http://schemas.openxmlformats.org/drawingml/2006/table">
            <a:tbl>
              <a:tblPr/>
              <a:tblGrid>
                <a:gridCol w="360360"/>
                <a:gridCol w="4752720"/>
                <a:gridCol w="3600720"/>
              </a:tblGrid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ность контингента студентов: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динамике контингента  с указанием количества  отчисленных  по различным причинам (%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я сотрудников, трудоустроенных по совместительству от числа действующих работников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 о количестве совместителей (%), привлеченных к педагогической деятельности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я преподавателей и мастеров производственного обучения, имеющих сертификат эксперта с правом проведения регионального чемпионата, сертификат эксперта-мастера, эксперта Абилимпикс, от общего количества преподавателей профессионального цикла и мастеров производственного обучения ПОО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 о количестве  (%) преподавателей – экспертов, копии сертификатов – эксперт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итивные результаты деятельности по снижению количества студентов, стоящих на учете в комиссии по делам несовершеннолетних; снижению (отсутствию) пропусков студентами занятий без уважительной причины, снижению негативных проявлений в студенческой сред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динамике количества пропущенных занятий (всего, по уважительным причинам, без уважительных причин), справка из комиссии по ДН о количестве обучающихся ПОО , состоящих на учет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ентоспособность образовательного учреждения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 выполнение контрольных цифр прием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выполнении  КЦ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достижений студенческого и педагогического коллективов в конкурсах, спартакиадах, олимпиадах, и других общественно-значимых мероприятиях, подтвержденных дипломами и приказами организаторов на уровне не ниже региональн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 победителей конкурсов,  чемпиона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зафиксированных нарушений трудового и образовательного процесс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б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и зафиксированных нарушений трудового и образовательного процесс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Номер слайда 3"/>
          <p:cNvSpPr/>
          <p:nvPr/>
        </p:nvSpPr>
        <p:spPr>
          <a:xfrm>
            <a:off x="8532720" y="6248520"/>
            <a:ext cx="3603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57D668-B899-4D0B-9496-DE7F7FB5DCC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6562800" cy="4111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1341360"/>
          <a:ext cx="8640720" cy="4351320"/>
        </p:xfrm>
        <a:graphic>
          <a:graphicData uri="http://schemas.openxmlformats.org/drawingml/2006/table">
            <a:tbl>
              <a:tblPr/>
              <a:tblGrid>
                <a:gridCol w="431640"/>
                <a:gridCol w="4537080"/>
                <a:gridCol w="3672000"/>
              </a:tblGrid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воспитанности студентов, их самоуправлени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ффективность действующей системы студенческого самоуправ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наличии системы студенческого самоуправления (студсовет, старостат и др.). Копии приказов о составе студенческого совета, справка о количестве заседаний старостат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жения студентов в мероприятиях различного уровн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, грамоты, копии приказ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с педагогическим коллективом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внедрении инновационных образовательных технологий (с указанием перечня инновационных технологий), копии приказов о составе рабочих групп по внедрению образовательных технологий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проведении обобщения опыта, копия свидетельства о размещении материалов опыта в областном банке методических материал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дрение инновационных образовательных технологий, обобщение и распространение опыта работы педагогического коллектива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ивное участие и проведение конференций, семинаров, форумов и т.д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публикаций, копии дипломов по результатам участия в конференциях, семинара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зация образовательного процесса, совершенствование организационной структуры управления, организация содержательного наполнения сайта образовательного 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мероприятиях, направленных на информатизацию образовательного процесса (1С-Колледж, разработка и использование ЦОК, электронный документооборот, внедрение ДОТ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гулярности наполнения  страниц сайта по У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Номер слайда 3"/>
          <p:cNvSpPr/>
          <p:nvPr/>
        </p:nvSpPr>
        <p:spPr>
          <a:xfrm>
            <a:off x="8532720" y="6248520"/>
            <a:ext cx="3603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496101-B6E0-4DAB-B5C6-8282F50FB4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E7B170-2A0A-4D2F-B284-6900459684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7643880" cy="482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341360"/>
          <a:ext cx="8640720" cy="4197600"/>
        </p:xfrm>
        <a:graphic>
          <a:graphicData uri="http://schemas.openxmlformats.org/drawingml/2006/table">
            <a:tbl>
              <a:tblPr/>
              <a:tblGrid>
                <a:gridCol w="432000"/>
                <a:gridCol w="4897440"/>
                <a:gridCol w="331128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ально-психологический климат в коллектив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наличии обоснованных жалоб и обращений родителей, педагогических работник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жалоб и обращений родителей и педагогических работник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ток и закрепление молодых квалифицированных специалис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 принятых на работу молодых специалис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охвата студентов дополнительным образованием (не менее 70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б охвате студентов ДП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ффективность работы службы по трудоустройству выпускников: показатель трудоустройства выпускников не ниже среднего по Росс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зультатах трудоустройства выпускник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я обучающихся ПОО (все формы обучения), продемонстрировавших по итогам ДЭ и независимой оценки уровень, соответствующий национальным и международным стандартам/выше среднего, от общего количества участвующих в ДЭ П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 о результатах ДЭ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публикаций по направлениям деятельности образовательного 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публик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4E8949-B337-40DC-AFE3-8981E2F9541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7643880" cy="482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341360"/>
          <a:ext cx="8640720" cy="4408560"/>
        </p:xfrm>
        <a:graphic>
          <a:graphicData uri="http://schemas.openxmlformats.org/drawingml/2006/table">
            <a:tbl>
              <a:tblPr/>
              <a:tblGrid>
                <a:gridCol w="360360"/>
                <a:gridCol w="4969080"/>
                <a:gridCol w="33112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евременное и качественное заполнение федеральных/региональных информационных баз: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замеча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полноте и своевременности  информационных ба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информационном наполнении интернет-ресурсов, способствующих формированию позитивного образа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публикаций  на официальной странице в «ВК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проектной деятельности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б участии в проектной деятельности, с указанием перечня проектов и роли в проект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реализации проектов регионального и федерального уровня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ициатор и руководитель проекта на уровне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лен команды проек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от организации программ ДПО и ПО (в общем объеме внебюджетных доходо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вкладе ОДПО во внебюджетные доходы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организации профориентационной работы в П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, подтверждающих результативность участия в конкурсах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(копии приказов) о проведении дней открытых дверей с указанием количества участник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и и призеры в конкурсах по профориен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ня открытых дверей (не менее 100 участников среди абитури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755A09-2DF8-47BA-9CD9-9F20E3E7F38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7643880" cy="482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341360"/>
          <a:ext cx="8640720" cy="3571920"/>
        </p:xfrm>
        <a:graphic>
          <a:graphicData uri="http://schemas.openxmlformats.org/drawingml/2006/table">
            <a:tbl>
              <a:tblPr/>
              <a:tblGrid>
                <a:gridCol w="432000"/>
                <a:gridCol w="4897440"/>
                <a:gridCol w="331128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е заполнение контента разделов в 1С: Колледж.ПРОФ по направлению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своевременности заполнения контента в 1С: учебный план,  контингент, ид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роведение и освещение на сайте, видеохостингах и группах ПОО в социальных сетях медиамеро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1 раза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гулярности  публикаций на сайте, видеохостингах и группах ПОО в социальных сетях медиамеро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обучения обучающихся по индивидуальным учебным планам (% ИУП от общего количества обучающихс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 обучающихся  (%) по ИУ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по целевому обуче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 обучающихся  (%) по целевой контрактной подготовк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ы и призеры конкурсов профессионального мастерства среди педагогов (Мастер года и т.д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, подтверждающих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езультативность участия в чемпионатах, олимпиадах, конкурсах среди  педагог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ды и призеры чемпионатов, олимпиад, конкурсов среди обучающих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, подтверждающих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езультативность участия в чемпионатах, олимпиадах, конкурсах среди обучающих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User</cp:lastModifiedBy>
  <dcterms:modified xsi:type="dcterms:W3CDTF">2024-10-17T19:03:07Z</dcterms:modified>
  <cp:revision>6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